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5145088"/>
  <p:notesSz cx="10083800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10083600" cy="69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7"/>
          </p:nvPr>
        </p:nvSpPr>
        <p:spPr>
          <a:xfrm>
            <a:off x="5711760" y="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2724120" y="520560"/>
            <a:ext cx="4633920" cy="260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1008000" y="3301920"/>
            <a:ext cx="8066160" cy="3129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8"/>
          </p:nvPr>
        </p:nvSpPr>
        <p:spPr>
          <a:xfrm>
            <a:off x="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9"/>
          </p:nvPr>
        </p:nvSpPr>
        <p:spPr>
          <a:xfrm>
            <a:off x="571176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2850-8F83-4F9C-8B85-0F9E2891E0F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724120" y="520560"/>
            <a:ext cx="4633920" cy="2608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008000" y="3301920"/>
            <a:ext cx="80661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571176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3391-C6E8-49D3-AC1D-CF40CB050E43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706856-71F8-4A43-8DFA-2DFB2631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6944BE-26AD-4C41-9824-2565C3CD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C802AA-F52B-4258-B1C7-9CF3FABC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F9CB82-D8AD-4EF4-91D5-BB81EF31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A8B115-606E-47A9-9D75-7EBC79C6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C61EB7-7015-4D38-81C3-0BF4416D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AF9B2-E6C7-4AAC-BC2E-D0C4CE07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C5DA8F-EF6E-40F5-B44E-5D8EE554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979694-3CA8-42B9-BD73-2DD23F1B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5FC37F-7C58-4450-A1D2-D9C9E869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0B18F5-0FE8-4D04-84C4-3534099F5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764FB7-9083-4B30-8D6B-7FF4D458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CAC9A2-3603-49C6-A669-D29832A0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41B38E-4898-497D-A22E-12D5EC9C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1DF423-1D0B-4B88-AA78-0E806081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8B4BE1-B2C3-4D76-A754-4CBD1E37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CD228D-E5FA-4B5C-A3D5-94B53771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E440B1-A83B-400D-969F-CDB7E4D4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0E8FAC-A6DE-4519-ACB3-D288C6DD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1C82FA-4BCA-4E4F-9BEC-23DFFEF0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65E2FE-773B-4477-9E89-4C2C0F8A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54BDE-112C-41A3-8017-01A8C21D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E0CB4-56C2-438E-9C48-6DB911A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D9FF4-5502-461F-A167-BB51F118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D6299-028F-4BC3-A0C2-EE34B8FC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FC2F7-11B6-4541-A819-736180A7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15828-F238-4C35-9946-932E113C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A377E-1BDD-402D-BB04-5F93CB93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88DF7-1581-48A0-BDE9-C8735842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3C02A-9D00-4C1A-975A-ABEB2D12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3C38D-4719-49AA-843A-EF2AA89C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F15B2-27C1-4009-B214-50EEE754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34F3C-9A66-4B92-8BF2-C4EF0170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FD9C4-7300-45F1-958E-CB845A37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4E9E7-97A9-4CCE-9985-81B67944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4CCF7-28F7-4053-BD72-DA8FF6C0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AF448-02B0-4187-9D64-ACF9FAD4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58D6F-9B0F-4427-8E55-4EF45FFD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383241-BB6C-4E3B-BA20-3FB5DDAB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1AFDA-E0DE-4660-B53B-636C5D7F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27F3C0-2B6C-4512-A9F2-154CF25E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6FC2EE-A392-40B3-9CB9-50E257C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E6095-B9E8-4115-B55C-9F4E5354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FA771F-51A8-4E24-8F8E-9787E963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C9E3E-718E-4836-AEE9-3E4B3396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841A6-3A32-45DC-93AA-33C1A0FF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25356-4C04-4060-A6AC-EFF7B779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1ADD16-C16B-4F0E-8708-05834581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3ACF0-8B8A-428B-9F0C-FC623C7D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7D655-3AE7-4054-A817-16C75FFD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108157-3781-4930-938D-EBAB7851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210F4-7CEE-48E1-A1EC-BD2E0542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AF82B-E520-460C-A015-A2C3143D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DE22B-2BC3-43BA-AD8C-C530124B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EDC05-1116-4459-9CB0-B149D977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04FCC-1A03-4B99-9D4B-1801A04D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F8B93-D12C-4DCF-98DA-19352369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F115B-F027-4D2B-B39B-070E260E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49906B-CC4F-4F20-BE92-72EF58BC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C9255-1155-47DC-A6F9-BC7A0BF4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08BC3-FC62-4658-B847-1D599C2F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6B7FD-DFF2-4847-A786-C56E4B61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DC252-6456-4295-896A-202BC74E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E4C44-89F1-4A92-A26A-FC8461DE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84B39-DE56-440C-86D3-2FF2F03D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E9482-BF71-4ED5-B696-F276792E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0C905-4705-40D9-B310-57983E16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755F3-8B4E-448C-B48A-9690343E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0403F-724A-485B-B722-EEF5C933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D6E4A-6A58-4148-A127-4F13138B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51DAB-6A60-495C-BA99-40F32885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22D656-02BE-487B-A254-03AD5244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31B0C-FC8C-4321-8AAB-8531F827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0C9E5-E2CB-47EE-9A7E-F7E44EC5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4F0F2-0912-4EE5-9273-D0DDAA00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79554-F38B-4EEB-A4DA-4013251C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43273-462C-469B-88BB-4D0CE945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C86CD-B71F-44D9-AA98-5DAA4DDA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5130D-CA30-44B2-8671-7A4F5B6F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E0A07E-9D48-4458-BBB3-71524DA1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34AE8-5A55-4009-9C9B-1C628734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3D66F-2EAD-47A3-9741-CE60D363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47DF19-7325-43CC-A188-A555C6B8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94068-E913-4A1C-96CA-5F220E3B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EB7E4-C788-4B10-AFF8-E30A8D7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F33CC-F8DD-4A7E-9094-D5DDCC2B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FAB97-EEA5-4D2B-95F2-285C2A67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BFF3EA-00CB-4002-9635-85551879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A132F4-6C12-458B-806D-7F9885F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08052-4884-4802-A327-7B5298F9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B432D-4C51-4E2C-B111-69E2B071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1DD3FA-19E5-49AF-959F-6F73A91D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9412A-F74B-49C5-B5FE-73FEE004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114EEA-FE27-4CA9-B7E4-9B5354CF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D350C5-215E-495E-ADC4-09D83707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C47063-CC41-4C8B-B83D-C9636550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dt" idx="2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2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4F59-1B70-4F4E-A450-175EA037FCC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8632-21CE-4E50-8F99-9473ECCBDA0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A249-C929-4821-9C45-6872442B5D6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9D70-F8F3-46A4-94AD-E23C032F65F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D951-0052-487F-A998-7FD6D87D3AD3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dt" idx="1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D164-DC1B-4A30-9C33-9C5BDF69575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dt" idx="1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1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C60F-2E4D-43EB-B1E9-582EEC5F9A6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dt" idx="2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D7F9-CA52-40E4-96C6-2E6A43D1E75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Информационная система</a:t>
            </a:r>
            <a:br>
              <a:rPr sz="2800"/>
            </a:b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«Электронное образование в Р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79280" y="1347480"/>
            <a:ext cx="896472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Структура сайта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тсутствие информации о статусе </a:t>
            </a:r>
            <a:br>
              <a:rPr sz="3600"/>
            </a:b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в перечне шк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4" descr=""/>
          <p:cNvPicPr/>
          <p:nvPr/>
        </p:nvPicPr>
        <p:blipFill>
          <a:blip r:embed="rId1"/>
          <a:stretch/>
        </p:blipFill>
        <p:spPr>
          <a:xfrm>
            <a:off x="480960" y="914400"/>
            <a:ext cx="8183520" cy="3314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АДМИНИСТРИРОВАНИЕ САЙ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96840" y="1662120"/>
            <a:ext cx="8951760" cy="181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О размещении информации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на официальных сайтах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07840"/>
            <a:ext cx="822960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 МОиН Р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13.11.2012 №13723/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ании Правил размещения в сети Интернет и обновления информации об ОУ, утвержденных постановлением Правительства РФ  от 18 апреля 2012 года №3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Информация об учредител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1.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Первый абзац на странице  О школ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аименование или фамилия, имя, отчество учредителя образовательного учреждения, его место нахождения, график работы, справочный телефон, адрес сайта в сети интернет, адрес электронной почт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2. Подвершина вершины О школе (гимназии, лице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дирек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рафик работы руководителя образовательного учреждения, справочный телефон, адрес электронной поч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ведения об уровне образован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квалификации педагогических работн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Содержимое 10" descr="Анкета педагога.png"/>
          <p:cNvPicPr/>
          <p:nvPr/>
        </p:nvPicPr>
        <p:blipFill>
          <a:blip r:embed="rId1"/>
          <a:stretch/>
        </p:blipFill>
        <p:spPr>
          <a:xfrm>
            <a:off x="3780000" y="1635120"/>
            <a:ext cx="4559040" cy="86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7" name="Содержимое 9" descr="Анкета пед1.png"/>
          <p:cNvPicPr/>
          <p:nvPr/>
        </p:nvPicPr>
        <p:blipFill>
          <a:blip r:embed="rId2"/>
          <a:stretch/>
        </p:blipFill>
        <p:spPr>
          <a:xfrm>
            <a:off x="611280" y="1419120"/>
            <a:ext cx="2892240" cy="3394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8" name="Рисунок 11" descr="Анкета пед2.png"/>
          <p:cNvPicPr/>
          <p:nvPr/>
        </p:nvPicPr>
        <p:blipFill>
          <a:blip r:embed="rId3"/>
          <a:stretch/>
        </p:blipFill>
        <p:spPr>
          <a:xfrm>
            <a:off x="5003640" y="2571840"/>
            <a:ext cx="3024360" cy="229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Особый статус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1"/>
          <a:stretch/>
        </p:blipFill>
        <p:spPr>
          <a:xfrm>
            <a:off x="457200" y="843120"/>
            <a:ext cx="8229600" cy="3751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Picture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229600" cy="4183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АДМИНИСТРИРОВАНИЕ САЙ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000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МИС РТ-Низамиев Ильдар Мунавирович</dc:creator>
  <dc:description/>
  <dc:language>en-US</dc:language>
  <cp:lastModifiedBy>Тамара</cp:lastModifiedBy>
  <dcterms:modified xsi:type="dcterms:W3CDTF">2013-03-22T06:03:12Z</dcterms:modified>
  <cp:revision>630</cp:revision>
  <dc:subject/>
  <dc:title>Презентация PowerPoint</dc:title>
</cp:coreProperties>
</file>